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11952"/>
        <c:axId val="55479261"/>
      </c:barChart>
      <c:catAx>
        <c:axId val="45211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79261"/>
        <c:crosses val="autoZero"/>
        <c:auto val="1"/>
        <c:lblAlgn val="ctr"/>
        <c:lblOffset val="100"/>
        <c:noMultiLvlLbl val="0"/>
      </c:catAx>
      <c:valAx>
        <c:axId val="55479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11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D4E-DB33-4C14-9C49-5FCF7DEB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A36-6148-4CB0-9BD0-F8B9D4D8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CCAC-11E0-40B2-9E78-A9E044A0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AA6-C285-4428-99DE-A8DC2EFD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84A-579E-4D3D-A138-1569993F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1F3D-2AA3-438E-AF88-962CA498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73A-0FF9-4260-82E0-4BAA67F1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1AE-565B-406C-AD36-AA782EBF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414-8775-4A9F-8C31-21B3C2F3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F563-062E-484A-8A44-0CF898F5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1DE-4289-4E4A-B587-2FB5228C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12E-0031-4B35-81C5-C3F6E1F8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DFAF3-A72A-4F5C-A6A0-CE8F4B02D0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