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72704"/>
        <c:axId val="56941257"/>
      </c:barChart>
      <c:catAx>
        <c:axId val="944727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41257"/>
        <c:crosses val="autoZero"/>
        <c:auto val="1"/>
        <c:lblAlgn val="ctr"/>
        <c:lblOffset val="100"/>
        <c:noMultiLvlLbl val="0"/>
      </c:catAx>
      <c:valAx>
        <c:axId val="569412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727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A21B-DB7D-4695-93A5-95AEBA4CF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FEF9-2621-46D9-BE14-E7D7BF26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95B-093D-4079-A3F5-A15EABC24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32FE-797C-4327-AEF5-42990E575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5927-8FD1-412B-A60F-989B3574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2A1D-B398-4CF3-A14D-BC1DDAF17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15B1-44EE-4757-8F2F-54FB6DD6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14F4-291E-451F-82BB-2421A177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026-B1C8-419A-8EF7-1E4A45E1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BDC-A784-4BB3-AE22-8C316D4B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1459-BC96-4290-AF00-84E7911C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EC5A-BD46-4DB2-9D3F-A73CB6F9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7E17A6-3227-4E42-83DF-CB264DCD01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