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03478"/>
        <c:axId val="26721402"/>
      </c:barChart>
      <c:catAx>
        <c:axId val="679034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21402"/>
        <c:crosses val="autoZero"/>
        <c:auto val="1"/>
        <c:lblAlgn val="ctr"/>
        <c:lblOffset val="100"/>
        <c:noMultiLvlLbl val="0"/>
      </c:catAx>
      <c:valAx>
        <c:axId val="26721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034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FCB-A255-42BE-8653-C6841532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7A3-EF62-4157-9867-967BC6AC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6D8-CBC8-47B9-83C1-2E25F2BF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476-F24A-4660-B705-AB4E1166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737-CAB8-4979-A76F-0C11B161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B26-1208-41D5-AEF4-44A6462E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411-D1D8-457A-97A5-CDBA9B2E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92B-B4E0-46D5-9D35-7FB69418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F87-4946-4EFC-8BBC-382A30C9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425-FF2A-4D10-822E-CF89652E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A59F-F16A-41C0-8A97-56C3012C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990-CC65-45A9-A446-9D3EFEE1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89EEF-F02A-454D-AF8E-1982362782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